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BB3-1F8C-429F-B809-0CBF8F4A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463-E799-4FAB-BC64-45A56B6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3E5-189F-4834-83A5-71FE1757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762-0C73-4436-9F6F-C7FDF324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BA32-ED17-436B-9CD1-4FCE2165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B9F5-D57E-4C61-9656-0096B8A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8F2D-79C1-48C5-A22C-D6C2909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2452-0DA5-485F-9C96-8A349621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9DF3-70D0-415E-A85A-7BF12846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4D6D-02F1-4C17-B856-C85891C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3E42-CEBE-4AA1-8CBC-3EC31E0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6EC-7FD0-4300-B966-39806237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C6DC-1724-4C53-B3C2-79FB01A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5CC2-9F4C-499E-B7CE-ABCA8AB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03FF-5895-4252-95B6-6658C833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172A-4280-4CA4-987D-9809CAF6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87E-CC82-4EA5-B22E-5234A711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683-3BEC-431A-AB2C-DB972CC1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976-5511-4814-97FE-31F6DE56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6D7-2EDC-4187-B03E-7F71C21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042-4D85-43FC-92E4-7E608F58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541-4EF4-4876-994D-91181B3F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478-EE50-484C-8826-2A18ED9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DE9-05EF-4EF6-A764-C34D6B1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E19C-BE97-4909-8CB7-259BBFBEDC5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DBB4-5412-4189-91EE-7769CDD642C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d Wr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ead can make or break your sto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is the first thing the reader looks at beyond the other graphic ele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rted Pyramid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st important facts go at the top of the artic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st important at the botto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o the newspaper editors can simply lob off the end of the arti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atural way to tell a sto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ders in a hurry can get news quickl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id for the headline writ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 / Summary 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t very crea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ort and to the poi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lled with inform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News + Attribution + Verb + V Subject + Tim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Examples on p. 130-131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Crutch for the lazy journalist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Do not use these often – only for stories that absolutely deem them necessary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the 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does my reader need to know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 creat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interesting inform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ample on p. 13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 object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 clichés and be objective in what you are repor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eate a lead that fits the sto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lead should be smooth, concise, readable, and interesting while giving the essential inf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amine the sample leads on p. 135-139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atic 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ng leads – keep leads short and to the poi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Leads should be no more than 25-30 word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Short leads are easy to read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on’t make them too short!  You don’t want to forget important information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Grammar / Content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Look at the examples on p. 142-143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ation and Question L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void quotation lea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t’s the lazy way out of writing a l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n’t do 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’s not your job to ask questions – you are supposed to answer th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things to rememb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subject / verb / object or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write overstuffed lea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void direct quotation lea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void questions in the l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oose a positive angle when possi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n’t bury the l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n’t write trite or clichéd lea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plain tal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nk ah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9:57:51Z</dcterms:created>
  <dc:creator>jvanengen</dc:creator>
  <dc:description/>
  <dc:language>en-US</dc:language>
  <cp:lastModifiedBy>jvanengen</cp:lastModifiedBy>
  <dcterms:modified xsi:type="dcterms:W3CDTF">2009-07-23T20:07:19Z</dcterms:modified>
  <cp:revision>1</cp:revision>
  <dc:subject/>
  <dc:title>Chapter 6</dc:title>
</cp:coreProperties>
</file>